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3.png" ContentType="image/png"/>
  <Override PartName="/ppt/media/image2.png" ContentType="image/png"/>
  <Override PartName="/ppt/media/suction.wav" ContentType="audio/x-wav"/>
  <Override PartName="/ppt/media/image4.jpeg" ContentType="image/jpeg"/>
  <Override PartName="/ppt/media/laser.wav" ContentType="audio/x-wav"/>
  <Override PartName="/ppt/media/push.wav" ContentType="audio/x-wav"/>
  <Override PartName="/ppt/media/type.wav" ContentType="audio/x-wav"/>
  <Override PartName="/ppt/media/image1.png" ContentType="image/png"/>
  <Override PartName="/ppt/media/drumroll.wav" ContentType="audio/x-wav"/>
  <Override PartName="/ppt/media/image9.png" ContentType="image/png"/>
  <Override PartName="/ppt/media/image8.png" ContentType="image/png"/>
  <Override PartName="/ppt/media/coin.wav" ContentType="audio/x-wav"/>
  <Override PartName="/ppt/media/image7.png" ContentType="image/png"/>
  <Override PartName="/ppt/media/click.wav" ContentType="audio/x-wav"/>
  <Override PartName="/ppt/media/image6.png" ContentType="image/png"/>
  <Override PartName="/ppt/media/chimes.wav" ContentType="audio/x-wav"/>
  <Override PartName="/ppt/media/wind.wav" ContentType="audio/x-wav"/>
  <Override PartName="/ppt/media/explode.wav" ContentType="audio/x-wav"/>
  <Override PartName="/ppt/media/bomb.wav" ContentType="audio/x-wav"/>
  <Override PartName="/ppt/media/image5.jpeg" ContentType="image/jpeg"/>
  <Override PartName="/ppt/media/breeze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0F64-B2B1-44B7-8C28-E7BF515E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2BC6-92A1-4BEA-A67E-8E924904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B2D-C382-4488-A2C1-98E2315F2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8090-47BB-477E-B3CC-142D2237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2DF5-1329-45E9-B59E-B63E3FC6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020C8-1FC4-402E-BA67-23D52F5E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856C-44DB-46AA-BD34-47781D8C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CD8C-37D4-4480-8A7D-FE66A563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B67A-B28E-4D58-8115-B7B870B2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7829-BB08-49BB-B885-5807D9F8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4FCB-97B1-4067-8E54-4E454BF5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EFD0-70EB-49BC-A931-5C87E6E1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E7A5-A385-4596-8414-DBC5C349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6E82-D648-466D-9829-DCA9057A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DC51-F644-4C90-8428-A146DF5D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64BD-9FDA-48AC-93F8-FEB69C13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CF756-5348-4F94-9EDD-CD8FE75D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0E56D0-73AB-4D73-9945-DD343280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BE026-8442-4C60-8D40-6E563984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9D0E7E-7FAE-4AFC-BF11-A193A223E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621CF7-58CE-48B4-945E-299CEB28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1E363-49AC-43E2-947F-BD4EB6E8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19F0-C522-4125-952E-813A50AF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3E6D17-8701-459E-A739-746A9076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AC8DF-C69E-4DB2-BD8C-D8C1828C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03B85-3565-4965-B3D1-C592A104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B0EDE-7C61-4EF1-91CF-B1705D94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D15875-AFD9-4412-8F1D-949C2A69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E73EE2-F81F-4286-A350-F29B880E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29D103-0613-4B75-8728-344B05D0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36D5E-0AD0-46C1-983B-F2EC7D57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E8214-4E03-4EDC-BCE6-A669AEDB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71BF3-F566-4021-B630-527D30D5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5496-4D08-417D-BFCA-0811CCBC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8E771-2EC2-4FF1-917E-26A186C5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441B3-B16B-4C44-8B78-F7162E60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01526-B79B-4A02-9A4E-56258A59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849B5-C7F3-4635-A1C2-B31E2AB4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83893-1BF2-43AD-91EE-29D0B3D2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47A41-F1F2-47B1-BA01-E9D02EE5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52D85-D620-4DD4-BE1D-2BA39CD4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02CAE-3BA2-41EF-AEE7-33B4CAB4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74E85-840D-40B5-98E8-97C0AEFA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7DADA0-CE59-4ADB-8197-7859F231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CF4B-664E-45E5-B230-69A9D8C2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392502-77E2-4C17-8804-71B2C558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01FFE-CC33-4638-9314-E1D77C6A0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C60F8-A80C-4009-889B-61302B01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5C95F-1386-4123-BE20-9B82D0B2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5F6E9-05AE-45B4-84B7-30CB8DA3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321872-54CE-40F6-BDAB-070F4CCC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D8A5B6-148C-4D73-B25D-D8F777F6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985432-DD75-4B64-B586-51494DDA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39B84D-1F12-4B0F-94AD-BEEAFCCB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D95BF7-FA8D-4DF1-9AE8-75D34D67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1C58-9879-427D-AC1B-20E7125C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493DA-C4E7-4B9C-972D-AA8642FA8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3FB30-8709-4E19-A924-4E8757DA7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6AE5D5-E770-4FA7-A5A6-B2BFF1B0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01845-B1B6-4CB2-A89F-CB6249A9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DDF90-EC8F-48C4-B59C-BC6E4B8D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51D66-0245-4D35-B145-BBED725A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A6935-29B3-4A37-9B6F-7E3CD81E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B58E2-F291-4D94-940C-31DAF88D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5A652-BD30-4D4E-9BFB-56A95049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942EE-F018-4F5E-85D6-E239D039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52C-1BE0-4BDD-AD9A-B21E49DF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13F2F-E77B-4636-8B74-19012BA4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F66E5-C077-4801-9BCD-1A11D3D7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D5039-C621-4CBF-8969-6C1C2B34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FB40-CC9D-49EE-A70B-26D8D569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100A-0DC9-42C4-AA7D-C3EE5431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4440-F850-4F51-B14E-888293DEF84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5060-B87C-461F-8315-7E1D648DDB3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88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CD9C-ABAC-4AFA-9E60-7E755A82676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5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FA8C-011D-410C-8319-96C0CA9428A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0BC2-DD59-4FA7-93A9-206B6F0838F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77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C5E2-3D25-43D3-83F2-C380D98F4ED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explode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dc.gov/" TargetMode="External"/><Relationship Id="rId2" Type="http://schemas.openxmlformats.org/officeDocument/2006/relationships/hyperlink" Target="http://www.who.org/" TargetMode="External"/><Relationship Id="rId3" Type="http://schemas.openxmlformats.org/officeDocument/2006/relationships/hyperlink" Target="http://www.webmd.com/" TargetMode="External"/><Relationship Id="rId4" Type="http://schemas.openxmlformats.org/officeDocument/2006/relationships/hyperlink" Target="http://www.emedicinehealth.com/" TargetMode="External"/><Relationship Id="rId5" Type="http://schemas.openxmlformats.org/officeDocument/2006/relationships/hyperlink" Target="http://www.images.google.com/" TargetMode="External"/><Relationship Id="rId6" Type="http://schemas.openxmlformats.org/officeDocument/2006/relationships/audio" Target="../media/drumroll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push.wav"/><Relationship Id="rId3" Type="http://schemas.openxmlformats.org/officeDocument/2006/relationships/audio" Target="../media/push.wav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lick.wav"/><Relationship Id="rId5" Type="http://schemas.openxmlformats.org/officeDocument/2006/relationships/audio" Target="../media/breeze.wav"/><Relationship Id="rId6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breeze.wav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audio" Target="../media/explode.wav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satou Gumaneh and Bianca Ob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590920" y="1676520"/>
            <a:ext cx="48006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8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Hepatitis 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fade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3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nalysi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best way to solve this problem is to make sure everyone has the proper shots to take care of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should also get tested before sexual intercour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u"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esourc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1"/>
              </a:rPr>
              <a:t>www.cdc.g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2"/>
              </a:rPr>
              <a:t>www.who.o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3"/>
              </a:rPr>
              <a:t>www.webmd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4"/>
              </a:rPr>
              <a:t>www.emedicinehealth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bf25a"/>
                </a:solidFill>
                <a:uFillTx/>
                <a:latin typeface="Tahoma"/>
                <a:hlinkClick r:id="rId5"/>
              </a:rPr>
              <a:t>www.images.google.co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cc"/>
                </a:solidFill>
                <a:latin typeface="Tahoma"/>
              </a:rPr>
              <a:t>Symptoms of Hepatitis B</a:t>
            </a:r>
            <a:endParaRPr b="0" lang="en-US" sz="29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v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igu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s of appetit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us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omit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bdominal pa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rk urin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y-colored bowel movement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int pa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aundice (Discolor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98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98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000000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Transmission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patitis B can be transmitted by the following thing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aring items such as razors or toothbrushes with an infected pers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x with an infected partn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le sticks or sharp instrument exposur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jection drug use that involves sharing needles, syringes, or drug-preparation equipmen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rth to an infected moth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act with blood or open sores of an infected pers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"/>
          <p:cNvSpPr/>
          <p:nvPr/>
        </p:nvSpPr>
        <p:spPr>
          <a:xfrm>
            <a:off x="974880" y="1027080"/>
            <a:ext cx="763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You cannot get Hepatitis B from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eing sneezed or coughed 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ugg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andshak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asual contact (such as an office or social sett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eastfe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ating food or drinking wat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  <p:sndAc>
      <p:stSnd>
        <p:snd r:embed="rId1" name="suction.wav"/>
      </p:stSnd>
    </p:sndAc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3" dur="2000" fill="hold"/>
                                        <p:tgtEl>
                                          <p:spTgt spid="3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at causes it?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caused by the virus HBV (hepatitis B vir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erm and saliva, which contain small amounts of blood, also carry the viru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a picture showing a liver that is infected with Hepatitis 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3124080"/>
            <a:ext cx="4648320" cy="31626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5410080" y="2133720"/>
            <a:ext cx="3048120" cy="3809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9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1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3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Rates of people with HBV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8305920" cy="43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,8,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50000">
              <a:srgbClr val="080808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Where can it be found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U.S is where Hepatitis be is commonly found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United States, hepatitis B is largely a disease of young adults aged 20-50 years o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disease causes about 5000 deaths each year.  Roughly 1.25 million people carry chronic Hepatitis B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77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770" fill="hold"/>
                                        <p:tgtEl>
                                          <p:spTgt spid="3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9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1" dur="77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77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4" dur="77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6" dur="77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How can it be prevented or treated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you have chronic hepatitis B, you should see your health care provider regularl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ugs like: interferon, epivir, hepsera, and baraclude can be given to  help to restore liver function and get rid of  HB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are also vaccinations to help against HB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9:41:48Z</dcterms:created>
  <dc:creator>Custom</dc:creator>
  <dc:description/>
  <dc:language>en-US</dc:language>
  <cp:lastModifiedBy>Custom</cp:lastModifiedBy>
  <dcterms:modified xsi:type="dcterms:W3CDTF">2010-03-04T19:19:05Z</dcterms:modified>
  <cp:revision>20</cp:revision>
  <dc:subject/>
  <dc:title>Hepatitis B </dc:title>
</cp:coreProperties>
</file>